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9DA-445A-4DB7-93BC-8D11A12B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B33-C65F-4ED5-A412-794EE25B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31D-FC07-43AA-8E19-0790028E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D7B-7463-4528-98BB-74134655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A28-591E-4263-B87C-41B0496B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5D9-89C9-44EF-A3BD-F92AE883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A31-119F-410C-BEE1-C8192EEE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618-AF62-4FD0-9378-D51D12E0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96B-F851-433D-B7C8-4EB9BA0D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C6B-DB88-4024-91E0-4C61B6C6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BA7-0FB1-418B-8B76-BF2D6358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091-6223-496F-94C7-8BF10F2F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4459-D4E6-4A33-A2D3-2E406B016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9644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372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6:20:32Z</dcterms:created>
  <dc:creator>Administrator</dc:creator>
  <dc:description/>
  <dc:language>en-US</dc:language>
  <cp:lastModifiedBy>Administrator</cp:lastModifiedBy>
  <dcterms:modified xsi:type="dcterms:W3CDTF">2010-03-16T18:25:3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