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4F36F-ABF9-4557-9A4A-5C0276C7B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A5A3A-497C-4F3B-A58C-60DB2C84C0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4A2C1-71BF-44EC-9507-96496F3C9D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8AB22-5EC0-4928-8203-2EFD8E631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830D-3619-4621-9052-3A7031D89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CB92F-A32A-45EC-A821-E5C7FE5C92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2CE9E-B5FA-4074-8748-235F8A397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4929A-3C93-4DE2-B5DC-03E4ED96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D593A-DA18-4F2A-BD89-1F0C94D01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25DD1-63AD-4932-AE01-269014AA6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518A2-D4C6-4D7F-BAC4-09CB99D535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1DB7-BA58-4AA5-93D3-8ED507CF0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BF05F-A21D-4BA0-8D8D-CE9B05C2D2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7696440" cy="500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1371600" y="457200"/>
            <a:ext cx="5372280" cy="51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16T16:20:32Z</dcterms:created>
  <dc:creator>Administrator</dc:creator>
  <dc:description/>
  <dc:language>en-US</dc:language>
  <cp:lastModifiedBy>Administrator</cp:lastModifiedBy>
  <dcterms:modified xsi:type="dcterms:W3CDTF">2010-03-16T18:25:38Z</dcterms:modified>
  <cp:revision>2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NewReviewCycle">
    <vt:lpwstr/>
  </property>
</Properties>
</file>